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993-43E2-42C0-8813-0495AB2F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DA9-D45A-4957-8D23-376D2154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81F-7917-47CF-8C7E-6EA8B596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264-B8A4-4974-BFB3-F1CF1CAD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C1D-29AF-413E-8458-68B5C5C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757-C78E-4E14-AFCF-CA7DCD68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C54-0928-445D-A331-D77DCDCC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E0D-219C-4122-96D2-79ED4970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0FD-F045-4B69-9DDC-33CB7BDC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80E-C307-4FDD-A345-015B228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DBF-4F39-4187-8200-50C65B38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617-29F3-45FD-9C78-8DF03BE7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27D0-7F35-4081-BB2D-05C9C215B7D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Qualitative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eve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nceptu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reene (2000); Fenstermacher (1994); Cuban (1992); Noddings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 concept is examined from a new l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n action or condition is explored as 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against 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e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focus is a new understanding of the concept and/or a new way to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ction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Lewin (1940); Schon (1983); Kemmis, (1988); McNiff (198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ndividuals examine their own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oal is change,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hallmark of profession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act, observe, refl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Ring the bells that still can 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Forget your perfect off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ere is a crack in ever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at’s how the light gets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eonard Cohen,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An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quire, understand, 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Deliberat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Made 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ubject to criticism (and defense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enhouse, (19x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even approaches to inqui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Narrative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Phenomenolog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rounded theory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Ethnograph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ase study 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onceptu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ction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andinin and Connolly (20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stories lived and tol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ingle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emes, epiphanies, disruptions, silences, deco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enomenolog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van Manen (1990); Moustakas (199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grasp the very nature of the thing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what do all participants have in common as they experience the phenomen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laser &amp; Strauss (1967); Charmaz (20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eory emerges from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examines actions, interactions, soci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repositions autho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nograph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Mead (1930); Wolcott (1999); Apple (199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detailed description of a 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culture-shar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nalysis of values and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critical ethnography 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– an advocacy persp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Denzin &amp; Lincoln (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n issue examined via one or more 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cases 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n a bounded system (time, pl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focus is understanding the complexity of the 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2:41:57Z</dcterms:created>
  <dc:creator>Elaine Decker</dc:creator>
  <dc:description/>
  <dc:language>en-US</dc:language>
  <cp:lastModifiedBy>Owner</cp:lastModifiedBy>
  <dcterms:modified xsi:type="dcterms:W3CDTF">2009-09-23T21:18:10Z</dcterms:modified>
  <cp:revision>17</cp:revision>
  <dc:subject/>
  <dc:title>Qualitative research</dc:title>
</cp:coreProperties>
</file>